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308-25C9-4FE5-8F20-042D92DA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97F-A535-4CB7-AD2D-86BB8AD7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F20-ADC9-4763-A7CD-E0CBBAFB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B62-196A-4200-8394-EEE0650A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998-5977-48D6-B34E-0071858C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EB8-9B5C-4BA1-8D3D-0B3451FC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890-613F-4835-B105-FC890827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65A-FC28-4A6F-A062-AA58AEC9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610-8B4D-47FC-A22C-00B8D2E2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533-CB63-491E-B5BD-2D80CA8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3E9-D386-4073-8267-0117460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79D-C1BF-4528-BB56-A9366E6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4606-8489-4C17-836E-47AAA001F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8915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iao</a:t>
            </a:r>
            <a:r>
              <a:rPr b="0" lang="es-MX" sz="6600" spc="-1" strike="noStrike">
                <a:solidFill>
                  <a:srgbClr val="000000"/>
                </a:solidFill>
                <a:latin typeface="Comic Sans MS"/>
              </a:rPr>
              <a:t>....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ella Persona !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      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ickman_waving_lg_wht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047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redo che senza un amico una persona perda  molto.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143240" y="3429000"/>
            <a:ext cx="857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77800"/>
            <a:ext cx="91440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n confondere un amico con un conoscen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05160" y="2054160"/>
            <a:ext cx="4332240" cy="3051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’è  molta differenza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’  importante l’attenzione verso gli altri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watering_flowers_md_wht" descr=""/>
          <p:cNvPicPr/>
          <p:nvPr/>
        </p:nvPicPr>
        <p:blipFill>
          <a:blip r:embed="rId1"/>
          <a:stretch/>
        </p:blipFill>
        <p:spPr>
          <a:xfrm>
            <a:off x="3971880" y="2666880"/>
            <a:ext cx="1200240" cy="1006560"/>
          </a:xfrm>
          <a:prstGeom prst="rect">
            <a:avLst/>
          </a:prstGeom>
          <a:ln w="0">
            <a:noFill/>
          </a:ln>
        </p:spPr>
      </p:pic>
      <p:pic>
        <p:nvPicPr>
          <p:cNvPr id="79" name="tulips_blue_md_wht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914400" cy="1017360"/>
          </a:xfrm>
          <a:prstGeom prst="rect">
            <a:avLst/>
          </a:prstGeom>
          <a:ln w="0">
            <a:noFill/>
          </a:ln>
        </p:spPr>
      </p:pic>
      <p:pic>
        <p:nvPicPr>
          <p:cNvPr id="80" name="tulips_burgundy_md_wht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914400" cy="1017720"/>
          </a:xfrm>
          <a:prstGeom prst="rect">
            <a:avLst/>
          </a:prstGeom>
          <a:ln w="0">
            <a:noFill/>
          </a:ln>
        </p:spPr>
      </p:pic>
      <p:pic>
        <p:nvPicPr>
          <p:cNvPr id="81" name="tulips_with_sun_md_wht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tulips_orange_md_wht" descr=""/>
          <p:cNvPicPr/>
          <p:nvPr/>
        </p:nvPicPr>
        <p:blipFill>
          <a:blip r:embed="rId5"/>
          <a:stretch/>
        </p:blipFill>
        <p:spPr>
          <a:xfrm>
            <a:off x="5562720" y="4495680"/>
            <a:ext cx="914400" cy="1017720"/>
          </a:xfrm>
          <a:prstGeom prst="rect">
            <a:avLst/>
          </a:prstGeom>
          <a:ln w="0">
            <a:noFill/>
          </a:ln>
        </p:spPr>
      </p:pic>
      <p:pic>
        <p:nvPicPr>
          <p:cNvPr id="83" name="tulips_yellow_md_wht" descr=""/>
          <p:cNvPicPr/>
          <p:nvPr/>
        </p:nvPicPr>
        <p:blipFill>
          <a:blip r:embed="rId6"/>
          <a:stretch/>
        </p:blipFill>
        <p:spPr>
          <a:xfrm>
            <a:off x="7010280" y="4495680"/>
            <a:ext cx="9144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via messagg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tutti i tuoi amici, per dire lor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che sono importanti per 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per farli star bene con se stess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e se ti rispondo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(anche una sola volt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significa c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tu sei importante per lo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7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7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67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9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67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40120" y="4952880"/>
            <a:ext cx="146376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33000"/>
            <a:ext cx="6400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uci sul sent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 sorriso non costa null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a vale mol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rricchisce chi lo ric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 chi lo d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on dura che un ista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a il suo ricordo è talora e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essuno è così ric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a poterne fare a m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essuno è così pov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a non poterlo don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 casa porta felicità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ella fatica infonde coragg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 bene che non si può compera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a solo regal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e Voi incontrerete chi un sorriso non vi sa da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onatelo Vo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ché nessuno ha tanto bisogno di un sorris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me colui che ad altri donarlo non s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it-IT" sz="2000" spc="-1" strike="noStrike">
                <a:solidFill>
                  <a:srgbClr val="000000"/>
                </a:solidFill>
                <a:latin typeface="Monotype Corsiva"/>
              </a:rPr>
              <a:t>F.Fab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Buona Giorn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ualche volta ti hanno detto che sei una persona molto speciale?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twokids" descr=""/>
          <p:cNvPicPr/>
          <p:nvPr/>
        </p:nvPicPr>
        <p:blipFill>
          <a:blip r:embed="rId1"/>
          <a:stretch/>
        </p:blipFill>
        <p:spPr>
          <a:xfrm>
            <a:off x="3279600" y="3429000"/>
            <a:ext cx="2583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94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Ch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la luce che emetti può  incendiare una stella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agicfriend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6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858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che  volta ti hanno detto come fai sentire importanti gli altri</a:t>
            </a: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oy_happy_mothers_day_hug_md_wht" descr=""/>
          <p:cNvPicPr/>
          <p:nvPr/>
        </p:nvPicPr>
        <p:blipFill>
          <a:blip r:embed="rId1"/>
          <a:stretch/>
        </p:blipFill>
        <p:spPr>
          <a:xfrm>
            <a:off x="3605040" y="3733920"/>
            <a:ext cx="1933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85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ualcuno qui sorride per questo amore così real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etch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92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che  volta qualcuno ti ha detto che molte volte quando era </a:t>
            </a: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trist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tue e-mails lo hanno fatto sorridere un poco, fino a rallegrarl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miley_lg_wht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858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 tutto il tempo che passi inviando e condividendo con g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altri ciò che trovi e provi,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non ci sono parole per ringraziart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86240" y="3809880"/>
            <a:ext cx="21715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6760" y="91440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che volta, qualcuno ti ha detto quanto ti apprezza? 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ngela_and_peace_dove_md_clr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1371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6384"/>
            </a:gs>
            <a:gs pos="100000">
              <a:srgbClr val="95c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590400"/>
            <a:ext cx="313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n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ia cara  amica "online</a:t>
            </a:r>
            <a:r>
              <a:rPr b="0" lang="es-MX" sz="3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2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3573360"/>
            <a:ext cx="487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ggi ti dico che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RO DI RICEVERE QUESTO INDIETRO DA 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1189080" cy="925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6:44:04Z</dcterms:created>
  <dc:creator/>
  <dc:description/>
  <dc:language>en-US</dc:language>
  <cp:lastModifiedBy>Gio</cp:lastModifiedBy>
  <dcterms:modified xsi:type="dcterms:W3CDTF">2005-05-24T13:56:57Z</dcterms:modified>
  <cp:revision>12</cp:revision>
  <dc:subject/>
  <dc:title>Presentación de PowerPoint</dc:title>
</cp:coreProperties>
</file>