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0800" y="69804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376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3080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70080" y="883080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9FE7E-1A19-47C4-9A64-0E58A97C655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0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20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0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20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201-E696-49FC-BF48-3F46D678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32B-4DE1-46B0-9EEA-D16ADD1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788-C487-457E-98A9-EDA3858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B70-70CF-4190-92C1-ED2AD55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8F7-7851-411D-B025-84E70BB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574-4E4F-4457-9667-156E40F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72E-263C-46E8-B525-3ACBC9B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361-4625-4006-BE2A-2BE8968B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961-A7C6-4D5F-9785-D2F463D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5E6-707D-4B64-AD0B-991E5559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E2C-DC97-45E0-A0D4-5FD9BD1B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0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020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0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020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753-C351-4C9E-9623-1D1C2A1C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1814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3E66-3E4A-4328-A08C-EE88C6E9D319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0120"/>
            <a:ext cx="9144000" cy="4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628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94072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7200" y="655272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3720" y="655272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02A7E-77B0-4218-98BA-917BEB7E3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46120"/>
            <a:ext cx="9144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1120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Business of Integrated Mobile Device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596960" y="3638520"/>
          <a:ext cx="97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3638520"/>
                    <a:ext cx="97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Blah blah blah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880000">
            <a:off x="1395000" y="1884240"/>
            <a:ext cx="2722680" cy="150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480000">
            <a:off x="1406160" y="2174400"/>
            <a:ext cx="2722680" cy="152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460000">
            <a:off x="1052640" y="1668240"/>
            <a:ext cx="2997000" cy="150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57760" y="3384720"/>
            <a:ext cx="1135080" cy="1469880"/>
            <a:chOff x="3857760" y="3384720"/>
            <a:chExt cx="1135080" cy="146988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857760" y="338472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010040" y="353700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4160880" y="3689280"/>
              <a:ext cx="5284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314960" y="384192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465800" y="3992400"/>
              <a:ext cx="527040" cy="86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8"/>
          <a:srcRect l="11673" t="15276" r="13063" b="12303"/>
          <a:stretch/>
        </p:blipFill>
        <p:spPr>
          <a:xfrm>
            <a:off x="135000" y="1428840"/>
            <a:ext cx="257976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 London</cp:lastModifiedBy>
  <dcterms:modified xsi:type="dcterms:W3CDTF">2008-03-07T20:48:42Z</dcterms:modified>
  <cp:revision>1</cp:revision>
  <dc:subject/>
  <dc:title>Slide 1</dc:title>
</cp:coreProperties>
</file>