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8771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257360"/>
            <a:ext cx="8771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5840" y="13701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2573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35840" y="42573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28242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06920" y="1370160"/>
            <a:ext cx="28242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72960" y="1370160"/>
            <a:ext cx="28242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257360"/>
            <a:ext cx="28242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06920" y="4257360"/>
            <a:ext cx="28242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72960" y="4257360"/>
            <a:ext cx="28242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1370160"/>
            <a:ext cx="8771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8771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4280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35840" y="1370160"/>
            <a:ext cx="4280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8880" y="414360"/>
            <a:ext cx="86184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5840" y="1370160"/>
            <a:ext cx="4280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2573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4280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35840" y="13701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35840" y="42573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5840" y="13701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257360"/>
            <a:ext cx="8771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370160"/>
            <a:ext cx="8771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327720" y="5467320"/>
            <a:ext cx="1166760" cy="889200"/>
          </a:xfrm>
          <a:prstGeom prst="rect">
            <a:avLst/>
          </a:prstGeom>
          <a:solidFill>
            <a:srgbClr val="99ccff"/>
          </a:solidFill>
          <a:ln w="90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těj Cepl</dc:creator>
  <dc:description/>
  <dc:language>en-US</dc:language>
  <cp:lastModifiedBy>Matěj Cepl</cp:lastModifiedBy>
  <cp:revision>0</cp:revision>
  <dc:subject/>
  <dc:title/>
</cp:coreProperties>
</file>