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8771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1240" y="4257360"/>
            <a:ext cx="8771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5840" y="13701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1240" y="42573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35840" y="42573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282420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06920" y="1370160"/>
            <a:ext cx="282420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72960" y="1370160"/>
            <a:ext cx="282420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1240" y="4257360"/>
            <a:ext cx="282420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06920" y="4257360"/>
            <a:ext cx="282420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72960" y="4257360"/>
            <a:ext cx="282420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1240" y="1370160"/>
            <a:ext cx="877104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877104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428004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35840" y="1370160"/>
            <a:ext cx="428004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58880" y="414360"/>
            <a:ext cx="861840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5840" y="1370160"/>
            <a:ext cx="428004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1240" y="42573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428004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35840" y="13701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35840" y="42573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5840" y="13701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1240" y="4257360"/>
            <a:ext cx="8771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cccc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1370160"/>
            <a:ext cx="877104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rcRect l="0" t="0" r="0" b="29927"/>
          <a:stretch/>
        </p:blipFill>
        <p:spPr>
          <a:xfrm>
            <a:off x="5307120" y="1312920"/>
            <a:ext cx="3975120" cy="512928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6327720" y="5467320"/>
            <a:ext cx="1166760" cy="889200"/>
          </a:xfrm>
          <a:prstGeom prst="rect">
            <a:avLst/>
          </a:prstGeom>
          <a:solidFill>
            <a:srgbClr val="99ccff"/>
          </a:solidFill>
          <a:ln w="90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těj Cepl</dc:creator>
  <dc:description/>
  <dc:language>en-US</dc:language>
  <cp:lastModifiedBy>Matěj Cepl</cp:lastModifiedBy>
  <cp:revision>0</cp:revision>
  <dc:subject/>
  <dc:title/>
</cp:coreProperties>
</file>