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cccc00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Tha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2573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8C29-37D9-4D63-ABCF-67D75BD7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A468-60DF-4552-B4F6-5B91A7FC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7627-46A5-4F76-A844-93F1A83C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58E0-060C-4D6F-B7E6-4C37B455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54D5-6476-4F81-9E9D-0B056871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8880" y="414360"/>
            <a:ext cx="86184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2CDC-1F0E-4B43-ADD8-0B005C9C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C7603-9E11-4A69-A6B9-7B79EFD9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E38A-D934-4F0F-A7F8-236FD6EE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7430-18D4-4CF3-8DCF-FB8F49C0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2573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D19F-E48E-4501-9C2D-84296552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78DD-9AB7-4B1D-B1A6-552DAE01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3701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257360"/>
            <a:ext cx="282420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61EF-D539-4ECA-98AA-3ACEA892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8880" y="414360"/>
            <a:ext cx="86184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2573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370160"/>
            <a:ext cx="4280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257360"/>
            <a:ext cx="8771040" cy="26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8880" y="414360"/>
            <a:ext cx="86184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cccc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370160"/>
            <a:ext cx="8771040" cy="55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2920" y="146160"/>
            <a:ext cx="9069480" cy="66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7DC3F-C191-4B46-B5AF-A45E38863D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dt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314280"/>
            <a:ext cx="860904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cccc00"/>
                </a:solidFill>
                <a:latin typeface="Arial"/>
              </a:rPr>
              <a:t>Burma (Myanmar)</a:t>
            </a:r>
            <a:r>
              <a:rPr b="1" i="1" lang="en-GB" sz="4000" spc="-1" strike="noStrike">
                <a:solidFill>
                  <a:srgbClr val="cccc00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400040"/>
            <a:ext cx="480204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dependent in 1948 as the “Union of Burma”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mocratic rule ended in 1962 with a military coup led by General Ne Wi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1989 renamed to the “Union of Myanmar”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1990 elections won by NLD, the party of Aung San Suu Kyi, but the result was voided by the militar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0" b="29927"/>
          <a:stretch/>
        </p:blipFill>
        <p:spPr>
          <a:xfrm>
            <a:off x="5307120" y="1312920"/>
            <a:ext cx="3975120" cy="5129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27720" y="5467320"/>
            <a:ext cx="1166760" cy="889200"/>
          </a:xfrm>
          <a:prstGeom prst="rect">
            <a:avLst/>
          </a:prstGeom>
          <a:solidFill>
            <a:srgbClr val="99ccff"/>
          </a:solidFill>
          <a:ln w="9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8520" y="419040"/>
            <a:ext cx="86202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cccc00"/>
                </a:solidFill>
                <a:latin typeface="Arial"/>
              </a:rPr>
              <a:t>Country of extremes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1370160"/>
            <a:ext cx="428148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xtremely rich in natural resources, land, peopl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xtremely damaged in their government and internal pea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30680" y="1370160"/>
            <a:ext cx="368964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8520" y="419040"/>
            <a:ext cx="86202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cccc00"/>
                </a:solidFill>
                <a:latin typeface="Arial"/>
              </a:rPr>
              <a:t>Country of blessings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1370160"/>
            <a:ext cx="428148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 resource-rich country (many ores, wood, precious stones, oil &amp; natural gas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nce known as “the rice basket of the British Empire”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eautiful country, ideal for tourism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07120" y="1370160"/>
            <a:ext cx="413676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8520" y="419040"/>
            <a:ext cx="86202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cccc00"/>
                </a:solidFill>
                <a:latin typeface="Arial"/>
              </a:rPr>
              <a:t>Country of curses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240" y="1369800"/>
            <a:ext cx="877248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untry totally divided by the longest civil war in the world (since 1948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uddhist 89%, Christian 4%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errorized by totally cynical military junt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otally mismanaged economy, chaos, inflation, no foreign investment, and foreign sanction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he second biggest exporter of opium in the worl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uge source of international trafficking of pers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ore or less complete information blackou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nd …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6000" y="1136160"/>
            <a:ext cx="4373640" cy="62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2</a:t>
            </a:r>
            <a:r>
              <a:rPr b="0" lang="en-GB" sz="3200" spc="-1" strike="noStrike" baseline="33000">
                <a:solidFill>
                  <a:srgbClr val="e6e6e6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deadliest named cyclone of all tim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3,2 mil. affected, approx. 100,000 di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alnutrition and not enough good wat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40-50-day before the season's crop is los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iseases—typhoid (already  reported), cholera, malaria, and others (even plague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741240" y="349200"/>
            <a:ext cx="86090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cccc00"/>
                </a:solidFill>
                <a:latin typeface="Arial"/>
              </a:rPr>
              <a:t>Cyclone Nargis (2008-05-02)</a:t>
            </a:r>
            <a:r>
              <a:rPr b="1" i="1" lang="en-GB" sz="4000" spc="-1" strike="noStrike">
                <a:solidFill>
                  <a:srgbClr val="cccc00"/>
                </a:solidFill>
                <a:latin typeface="Arial"/>
              </a:rPr>
              <a:t>‏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520" y="414360"/>
            <a:ext cx="86202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cccc00"/>
                </a:solidFill>
                <a:latin typeface="Arial"/>
              </a:rPr>
              <a:t>Government’s resistance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1369800"/>
            <a:ext cx="428148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overnment maintains its power onl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rpses are reported to be in the stree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nly material aid, no  workers, no logistic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eign aid modified to make it look like coming from the military regim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lling aid to the highest bidd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35120" y="1369800"/>
            <a:ext cx="4281480" cy="5529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35120" t="19859" r="25089" b="0"/>
          <a:stretch/>
        </p:blipFill>
        <p:spPr>
          <a:xfrm>
            <a:off x="5398920" y="1432080"/>
            <a:ext cx="3967200" cy="54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8520" y="447840"/>
            <a:ext cx="86202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cccc00"/>
                </a:solidFill>
                <a:latin typeface="Arial"/>
              </a:rPr>
              <a:t>Prayer points</a:t>
            </a:r>
            <a:endParaRPr b="1" i="1" lang="en-US" sz="40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1240" y="1370160"/>
            <a:ext cx="877248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 the foreign aid to be able to come freely to the country ON TIME!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 the rice to be planted on ti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 the just punishment of those who caused tens of thousands of people to die unnecessaril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 the peace among different national/religious groups in the count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 the courage of Christians in the country to stand up against injustice and oppress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 their faithful testimony about Christ and break through for the Christ entry into the nations of Burma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těj Cepl</dc:creator>
  <dc:description/>
  <dc:language>en-US</dc:language>
  <cp:lastModifiedBy>Matěj Cepl</cp:lastModifiedBy>
  <cp:revision>0</cp:revision>
  <dc:subject/>
  <dc:title/>
</cp:coreProperties>
</file>