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0800" y="69804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376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83080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970080" y="8830800"/>
            <a:ext cx="303516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A7F13-33DB-4530-88CC-7B253F9BDCF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40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20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40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20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A13-14BE-4687-AAD2-EE14D80F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400-3E2D-4A57-B4B7-3645ED39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2B5-0DA9-494B-9EBD-9CD63A60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BE9-A47F-439E-B3D2-98DDE3C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1163-DFE7-49BA-9401-66785CA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4076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46C-02C0-4032-AE87-5290BD47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645-ACA8-4860-8266-98389B4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7F0-21A6-4C2A-A93A-555CFA0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DDF-9FE0-47CD-BB59-4788F1D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037-3603-4D13-B69C-9C676716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E54-0DAD-4895-8BA2-D45C983C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04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0200" y="99036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04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0200" y="3814920"/>
            <a:ext cx="27957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E4E-6253-4127-9660-02F3AB65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4076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81492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990360"/>
            <a:ext cx="4237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14920"/>
            <a:ext cx="8683560" cy="257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990360"/>
            <a:ext cx="868356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18148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4E0DF-0502-4BD0-B3BA-A8BCD513C462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0120"/>
            <a:ext cx="9144000" cy="4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62856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94072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7200" y="655272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3720" y="6552720"/>
            <a:ext cx="2892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213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73AC4-A454-41B1-A25C-4F5D8F02F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46120"/>
            <a:ext cx="9144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1120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Business of Integrated Mobile Device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596960" y="3638520"/>
          <a:ext cx="9781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3638520"/>
                    <a:ext cx="97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Blah blah blah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880000">
            <a:off x="1395000" y="1884240"/>
            <a:ext cx="2722680" cy="150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 rot="480000">
            <a:off x="1406160" y="2174400"/>
            <a:ext cx="2722680" cy="152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460000">
            <a:off x="1052640" y="1668240"/>
            <a:ext cx="2997000" cy="150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57760" y="3384720"/>
            <a:ext cx="1135080" cy="1469880"/>
            <a:chOff x="3857760" y="3384720"/>
            <a:chExt cx="1135080" cy="146988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857760" y="3384720"/>
              <a:ext cx="5270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010040" y="3537000"/>
              <a:ext cx="5270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4160880" y="3689280"/>
              <a:ext cx="52848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314960" y="3841920"/>
              <a:ext cx="5270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465800" y="3992400"/>
              <a:ext cx="527040" cy="86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8"/>
          <a:srcRect l="11673" t="15276" r="13063" b="12303"/>
          <a:stretch/>
        </p:blipFill>
        <p:spPr>
          <a:xfrm>
            <a:off x="135000" y="1428840"/>
            <a:ext cx="257976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 London</cp:lastModifiedBy>
  <dcterms:modified xsi:type="dcterms:W3CDTF">2008-03-07T20:48:42Z</dcterms:modified>
  <cp:revision>1</cp:revision>
  <dc:subject/>
  <dc:title>Slide 1</dc:title>
</cp:coreProperties>
</file>