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2"/>
          <c:y val="0.131240981240981"/>
          <c:w val="0.96"/>
          <c:h val="0.8488455988455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ositive </c:v>
                </c:pt>
              </c:strCache>
            </c:strRef>
          </c:tx>
          <c:spPr>
            <a:solidFill>
              <a:srgbClr val="0065bd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190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Positive</c:v>
                </c:pt>
                <c:pt idx="1">
                  <c:v>Negative</c:v>
                </c:pt>
                <c:pt idx="2">
                  <c:v>Nodding</c:v>
                </c:pt>
                <c:pt idx="3">
                  <c:v>No display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6</c:v>
                </c:pt>
                <c:pt idx="1">
                  <c:v>28</c:v>
                </c:pt>
                <c:pt idx="2">
                  <c:v>67</c:v>
                </c:pt>
                <c:pt idx="3">
                  <c:v>2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Negative</c:v>
                </c:pt>
              </c:strCache>
            </c:strRef>
          </c:tx>
          <c:spPr>
            <a:solidFill>
              <a:srgbClr val="dad7cb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190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Positive</c:v>
                </c:pt>
                <c:pt idx="1">
                  <c:v>Negative</c:v>
                </c:pt>
                <c:pt idx="2">
                  <c:v>Nodding</c:v>
                </c:pt>
                <c:pt idx="3">
                  <c:v>No display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4</c:v>
                </c:pt>
                <c:pt idx="1">
                  <c:v>69</c:v>
                </c:pt>
                <c:pt idx="2">
                  <c:v>20</c:v>
                </c:pt>
                <c:pt idx="3">
                  <c:v>4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Don't know</c:v>
                </c:pt>
              </c:strCache>
            </c:strRef>
          </c:tx>
          <c:spPr>
            <a:solidFill>
              <a:srgbClr val="a2ad0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190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Positive</c:v>
                </c:pt>
                <c:pt idx="1">
                  <c:v>Negative</c:v>
                </c:pt>
                <c:pt idx="2">
                  <c:v>Nodding</c:v>
                </c:pt>
                <c:pt idx="3">
                  <c:v>No displays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14</c:v>
                </c:pt>
                <c:pt idx="1">
                  <c:v>7</c:v>
                </c:pt>
                <c:pt idx="2">
                  <c:v>17</c:v>
                </c:pt>
                <c:pt idx="3">
                  <c:v>30</c:v>
                </c:pt>
              </c:numCache>
            </c:numRef>
          </c:val>
        </c:ser>
        <c:gapWidth val="100"/>
        <c:overlap val="0"/>
        <c:axId val="68776076"/>
        <c:axId val="34692611"/>
      </c:barChart>
      <c:catAx>
        <c:axId val="68776076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  <a:r>
                  <a: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rPr>
                  <a:t>Display type</a:t>
                </a:r>
              </a:p>
            </c:rich>
          </c:tx>
          <c:layout>
            <c:manualLayout>
              <c:xMode val="edge"/>
              <c:yMode val="edge"/>
              <c:x val="0.465396825396825"/>
              <c:y val="0.923232323232323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ffffff"/>
            </a:solidFill>
          </a:ln>
        </c:spPr>
        <c:txPr>
          <a:bodyPr/>
          <a:lstStyle/>
          <a:p>
            <a:pPr>
              <a:defRPr b="0" sz="1380" spc="-1" strike="noStrike">
                <a:solidFill>
                  <a:srgbClr val="ffffff"/>
                </a:solidFill>
                <a:latin typeface="TUM Neue Helvetica 55 Regular"/>
                <a:ea typeface="MS Gothic"/>
              </a:defRPr>
            </a:pPr>
          </a:p>
        </c:txPr>
        <c:crossAx val="34692611"/>
        <c:crossesAt val="0"/>
        <c:auto val="1"/>
        <c:lblAlgn val="ctr"/>
        <c:lblOffset val="100"/>
        <c:noMultiLvlLbl val="0"/>
      </c:catAx>
      <c:valAx>
        <c:axId val="34692611"/>
        <c:scaling>
          <c:orientation val="minMax"/>
        </c:scaling>
        <c:delete val="0"/>
        <c:axPos val="l"/>
        <c:title>
          <c:tx>
            <c:rich>
              <a:bodyPr rot="-5400000"/>
              <a:lstStyle/>
              <a:p>
                <a:pPr>
                  <a:def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  <a:r>
                  <a: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rPr>
                  <a:t>Choice count</a:t>
                </a:r>
              </a:p>
            </c:rich>
          </c:tx>
          <c:layout>
            <c:manualLayout>
              <c:xMode val="edge"/>
              <c:yMode val="edge"/>
              <c:x val="0.0200396825396825"/>
              <c:y val="0.328354978354978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none"/>
        <c:minorTickMark val="none"/>
        <c:tickLblPos val="none"/>
        <c:spPr>
          <a:ln w="0">
            <a:solidFill>
              <a:srgbClr val="ffffff"/>
            </a:solidFill>
          </a:ln>
        </c:spPr>
        <c:txPr>
          <a:bodyPr/>
          <a:lstStyle/>
          <a:p>
            <a:pPr>
              <a:defRPr b="0" sz="1380" spc="-1" strike="noStrike">
                <a:solidFill>
                  <a:srgbClr val="ffffff"/>
                </a:solidFill>
                <a:latin typeface="TUM Neue Helvetica 55 Regular"/>
                <a:ea typeface="MS Gothic"/>
              </a:defRPr>
            </a:pPr>
          </a:p>
        </c:txPr>
        <c:crossAx val="68776076"/>
        <c:crosses val="min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332777777777778"/>
          <c:y val="0.0374458874458875"/>
        </c:manualLayout>
      </c:layout>
      <c:overlay val="0"/>
      <c:spPr>
        <a:noFill/>
        <a:ln w="0">
          <a:solidFill>
            <a:srgbClr val="ffffff"/>
          </a:solidFill>
        </a:ln>
      </c:spPr>
      <c:txPr>
        <a:bodyPr/>
        <a:lstStyle/>
        <a:p>
          <a:pPr>
            <a:defRPr b="0" sz="1190" spc="-1" strike="noStrike">
              <a:solidFill>
                <a:srgbClr val="ffffff"/>
              </a:solidFill>
              <a:latin typeface="TUM Neue Helvetica 55 Regular"/>
              <a:ea typeface="MS Gothic"/>
            </a:defRPr>
          </a:pPr>
        </a:p>
      </c:txPr>
    </c:legend>
    <c:plotVisOnly val="0"/>
    <c:dispBlanksAs val="gap"/>
  </c:chart>
  <c:spPr>
    <a:solidFill>
      <a:srgbClr val="003359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2"/>
          <c:y val="0.131240981240981"/>
          <c:w val="0.96"/>
          <c:h val="0.8488455988455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ositive </c:v>
                </c:pt>
              </c:strCache>
            </c:strRef>
          </c:tx>
          <c:spPr>
            <a:solidFill>
              <a:srgbClr val="0065bd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190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'You will like this"</c:v>
                </c:pt>
                <c:pt idx="1">
                  <c:v>"You will not like this"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31</c:v>
                </c:pt>
                <c:pt idx="1">
                  <c:v>1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Negative</c:v>
                </c:pt>
              </c:strCache>
            </c:strRef>
          </c:tx>
          <c:spPr>
            <a:solidFill>
              <a:srgbClr val="dad7cb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190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'You will like this"</c:v>
                </c:pt>
                <c:pt idx="1">
                  <c:v>"You will not like this"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5</c:v>
                </c:pt>
                <c:pt idx="1">
                  <c:v>20</c:v>
                </c:pt>
              </c:numCache>
            </c:numRef>
          </c:val>
        </c:ser>
        <c:gapWidth val="100"/>
        <c:overlap val="0"/>
        <c:axId val="78584933"/>
        <c:axId val="59484640"/>
      </c:barChart>
      <c:catAx>
        <c:axId val="78584933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  <a:r>
                  <a: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rPr>
                  <a:t>Context</a:t>
                </a:r>
              </a:p>
            </c:rich>
          </c:tx>
          <c:layout>
            <c:manualLayout>
              <c:xMode val="edge"/>
              <c:yMode val="edge"/>
              <c:x val="0.465396825396825"/>
              <c:y val="0.922366522366522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ffffff"/>
            </a:solidFill>
          </a:ln>
        </c:spPr>
        <c:txPr>
          <a:bodyPr/>
          <a:lstStyle/>
          <a:p>
            <a:pPr>
              <a:defRPr b="0" sz="1380" spc="-1" strike="noStrike">
                <a:solidFill>
                  <a:srgbClr val="ffffff"/>
                </a:solidFill>
                <a:latin typeface="TUM Neue Helvetica 55 Regular"/>
                <a:ea typeface="MS Gothic"/>
              </a:defRPr>
            </a:pPr>
          </a:p>
        </c:txPr>
        <c:crossAx val="59484640"/>
        <c:crossesAt val="0"/>
        <c:auto val="1"/>
        <c:lblAlgn val="ctr"/>
        <c:lblOffset val="100"/>
        <c:noMultiLvlLbl val="0"/>
      </c:catAx>
      <c:valAx>
        <c:axId val="59484640"/>
        <c:scaling>
          <c:orientation val="minMax"/>
          <c:max val="35"/>
        </c:scaling>
        <c:delete val="0"/>
        <c:axPos val="l"/>
        <c:title>
          <c:tx>
            <c:rich>
              <a:bodyPr rot="-5400000"/>
              <a:lstStyle/>
              <a:p>
                <a:pPr>
                  <a:def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  <a:r>
                  <a: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rPr>
                  <a:t>Choice count</a:t>
                </a:r>
              </a:p>
            </c:rich>
          </c:tx>
          <c:layout>
            <c:manualLayout>
              <c:xMode val="edge"/>
              <c:yMode val="edge"/>
              <c:x val="0.0200396825396825"/>
              <c:y val="0.328354978354978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extTo"/>
        <c:spPr>
          <a:ln w="0">
            <a:solidFill>
              <a:srgbClr val="ffffff"/>
            </a:solidFill>
          </a:ln>
        </c:spPr>
        <c:txPr>
          <a:bodyPr/>
          <a:lstStyle/>
          <a:p>
            <a:pPr>
              <a:defRPr b="0" sz="1380" spc="-1" strike="noStrike">
                <a:solidFill>
                  <a:srgbClr val="ffffff"/>
                </a:solidFill>
                <a:latin typeface="TUM Neue Helvetica 55 Regular"/>
                <a:ea typeface="MS Gothic"/>
              </a:defRPr>
            </a:pPr>
          </a:p>
        </c:txPr>
        <c:crossAx val="78584933"/>
        <c:crosses val="min"/>
        <c:crossBetween val="between"/>
        <c:majorUnit val="5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404206349206349"/>
          <c:y val="0.0374458874458875"/>
        </c:manualLayout>
      </c:layout>
      <c:overlay val="0"/>
      <c:spPr>
        <a:noFill/>
        <a:ln w="0">
          <a:solidFill>
            <a:srgbClr val="ffffff"/>
          </a:solidFill>
        </a:ln>
      </c:spPr>
      <c:txPr>
        <a:bodyPr/>
        <a:lstStyle/>
        <a:p>
          <a:pPr>
            <a:defRPr b="0" sz="1190" spc="-1" strike="noStrike">
              <a:solidFill>
                <a:srgbClr val="ffffff"/>
              </a:solidFill>
              <a:latin typeface="TUM Neue Helvetica 55 Regular"/>
              <a:ea typeface="MS Gothic"/>
            </a:defRPr>
          </a:pPr>
        </a:p>
      </c:txPr>
    </c:legend>
    <c:plotVisOnly val="0"/>
    <c:dispBlanksAs val="gap"/>
  </c:chart>
  <c:spPr>
    <a:solidFill>
      <a:srgbClr val="003359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2"/>
          <c:y val="0.131240981240981"/>
          <c:w val="0.96"/>
          <c:h val="0.8488455988455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ositive </c:v>
                </c:pt>
              </c:strCache>
            </c:strRef>
          </c:tx>
          <c:spPr>
            <a:solidFill>
              <a:srgbClr val="0065bd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190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'You will like this"</c:v>
                </c:pt>
                <c:pt idx="1">
                  <c:v>"You will not like this"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5</c:v>
                </c:pt>
                <c:pt idx="1">
                  <c:v>1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Nodding</c:v>
                </c:pt>
              </c:strCache>
            </c:strRef>
          </c:tx>
          <c:spPr>
            <a:solidFill>
              <a:srgbClr val="a2ad0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190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'You will like this"</c:v>
                </c:pt>
                <c:pt idx="1">
                  <c:v>"You will not like this"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1</c:v>
                </c:pt>
                <c:pt idx="1">
                  <c:v>20</c:v>
                </c:pt>
              </c:numCache>
            </c:numRef>
          </c:val>
        </c:ser>
        <c:gapWidth val="100"/>
        <c:overlap val="0"/>
        <c:axId val="20078655"/>
        <c:axId val="85314505"/>
      </c:barChart>
      <c:catAx>
        <c:axId val="20078655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  <a:r>
                  <a: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rPr>
                  <a:t>Context</a:t>
                </a:r>
              </a:p>
            </c:rich>
          </c:tx>
          <c:layout>
            <c:manualLayout>
              <c:xMode val="edge"/>
              <c:yMode val="edge"/>
              <c:x val="0.465396825396825"/>
              <c:y val="0.921645021645022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ffffff"/>
            </a:solidFill>
          </a:ln>
        </c:spPr>
        <c:txPr>
          <a:bodyPr/>
          <a:lstStyle/>
          <a:p>
            <a:pPr>
              <a:defRPr b="0" sz="1380" spc="-1" strike="noStrike">
                <a:solidFill>
                  <a:srgbClr val="ffffff"/>
                </a:solidFill>
                <a:latin typeface="TUM Neue Helvetica 55 Regular"/>
                <a:ea typeface="MS Gothic"/>
              </a:defRPr>
            </a:pPr>
          </a:p>
        </c:txPr>
        <c:crossAx val="85314505"/>
        <c:crossesAt val="0"/>
        <c:auto val="1"/>
        <c:lblAlgn val="ctr"/>
        <c:lblOffset val="100"/>
        <c:noMultiLvlLbl val="0"/>
      </c:catAx>
      <c:valAx>
        <c:axId val="85314505"/>
        <c:scaling>
          <c:orientation val="minMax"/>
        </c:scaling>
        <c:delete val="0"/>
        <c:axPos val="l"/>
        <c:title>
          <c:tx>
            <c:rich>
              <a:bodyPr rot="-5400000"/>
              <a:lstStyle/>
              <a:p>
                <a:pPr>
                  <a:def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  <a:r>
                  <a: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rPr>
                  <a:t>Choice count</a:t>
                </a:r>
              </a:p>
            </c:rich>
          </c:tx>
          <c:layout>
            <c:manualLayout>
              <c:xMode val="edge"/>
              <c:yMode val="edge"/>
              <c:x val="0.0200396825396825"/>
              <c:y val="0.328354978354978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extTo"/>
        <c:spPr>
          <a:ln w="0">
            <a:solidFill>
              <a:srgbClr val="ffffff"/>
            </a:solidFill>
          </a:ln>
        </c:spPr>
        <c:txPr>
          <a:bodyPr/>
          <a:lstStyle/>
          <a:p>
            <a:pPr>
              <a:defRPr b="0" sz="1380" spc="-1" strike="noStrike">
                <a:solidFill>
                  <a:srgbClr val="ffffff"/>
                </a:solidFill>
                <a:latin typeface="TUM Neue Helvetica 55 Regular"/>
                <a:ea typeface="MS Gothic"/>
              </a:defRPr>
            </a:pPr>
          </a:p>
        </c:txPr>
        <c:crossAx val="20078655"/>
        <c:crosses val="min"/>
        <c:crossBetween val="between"/>
        <c:majorUnit val="5"/>
        <c:minorUnit val="1.25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404206349206349"/>
          <c:y val="0.0374458874458875"/>
        </c:manualLayout>
      </c:layout>
      <c:overlay val="0"/>
      <c:spPr>
        <a:noFill/>
        <a:ln w="0">
          <a:solidFill>
            <a:srgbClr val="ffffff"/>
          </a:solidFill>
        </a:ln>
      </c:spPr>
      <c:txPr>
        <a:bodyPr/>
        <a:lstStyle/>
        <a:p>
          <a:pPr>
            <a:defRPr b="0" sz="1190" spc="-1" strike="noStrike">
              <a:solidFill>
                <a:srgbClr val="ffffff"/>
              </a:solidFill>
              <a:latin typeface="TUM Neue Helvetica 55 Regular"/>
              <a:ea typeface="MS Gothic"/>
            </a:defRPr>
          </a:pPr>
        </a:p>
      </c:txPr>
    </c:legend>
    <c:plotVisOnly val="0"/>
    <c:dispBlanksAs val="gap"/>
  </c:chart>
  <c:spPr>
    <a:solidFill>
      <a:srgbClr val="003359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2"/>
          <c:y val="0.131240981240981"/>
          <c:w val="0.96"/>
          <c:h val="0.8488455988455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Nodding</c:v>
                </c:pt>
              </c:strCache>
            </c:strRef>
          </c:tx>
          <c:spPr>
            <a:solidFill>
              <a:srgbClr val="a2ad0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190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'You will like this"</c:v>
                </c:pt>
                <c:pt idx="1">
                  <c:v>"You will not like this"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2</c:v>
                </c:pt>
                <c:pt idx="1">
                  <c:v>1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Negative</c:v>
                </c:pt>
              </c:strCache>
            </c:strRef>
          </c:tx>
          <c:spPr>
            <a:solidFill>
              <a:srgbClr val="dad7cb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190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'You will like this"</c:v>
                </c:pt>
                <c:pt idx="1">
                  <c:v>"You will not like this"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</c:v>
                </c:pt>
                <c:pt idx="1">
                  <c:v>22</c:v>
                </c:pt>
              </c:numCache>
            </c:numRef>
          </c:val>
        </c:ser>
        <c:gapWidth val="100"/>
        <c:overlap val="0"/>
        <c:axId val="96078558"/>
        <c:axId val="93598856"/>
      </c:barChart>
      <c:catAx>
        <c:axId val="96078558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  <a:r>
                  <a: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rPr>
                  <a:t>Context</a:t>
                </a:r>
              </a:p>
            </c:rich>
          </c:tx>
          <c:layout>
            <c:manualLayout>
              <c:xMode val="edge"/>
              <c:yMode val="edge"/>
              <c:x val="0.465396825396825"/>
              <c:y val="0.921645021645022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ffffff"/>
            </a:solidFill>
          </a:ln>
        </c:spPr>
        <c:txPr>
          <a:bodyPr/>
          <a:lstStyle/>
          <a:p>
            <a:pPr>
              <a:defRPr b="0" sz="1380" spc="-1" strike="noStrike">
                <a:solidFill>
                  <a:srgbClr val="ffffff"/>
                </a:solidFill>
                <a:latin typeface="TUM Neue Helvetica 55 Regular"/>
                <a:ea typeface="MS Gothic"/>
              </a:defRPr>
            </a:pPr>
          </a:p>
        </c:txPr>
        <c:crossAx val="93598856"/>
        <c:crossesAt val="0"/>
        <c:auto val="1"/>
        <c:lblAlgn val="ctr"/>
        <c:lblOffset val="100"/>
        <c:noMultiLvlLbl val="0"/>
      </c:catAx>
      <c:valAx>
        <c:axId val="93598856"/>
        <c:scaling>
          <c:orientation val="minMax"/>
          <c:max val="25"/>
        </c:scaling>
        <c:delete val="0"/>
        <c:axPos val="l"/>
        <c:title>
          <c:tx>
            <c:rich>
              <a:bodyPr rot="-5400000"/>
              <a:lstStyle/>
              <a:p>
                <a:pPr>
                  <a:def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defRPr>
                </a:pPr>
                <a:r>
                  <a:rPr b="0" sz="1779" spc="-1" strike="noStrike">
                    <a:solidFill>
                      <a:srgbClr val="ffffff"/>
                    </a:solidFill>
                    <a:latin typeface="TUM Neue Helvetica 55 Regular"/>
                    <a:ea typeface="MS Gothic"/>
                  </a:rPr>
                  <a:t>Choice count</a:t>
                </a:r>
              </a:p>
            </c:rich>
          </c:tx>
          <c:layout>
            <c:manualLayout>
              <c:xMode val="edge"/>
              <c:yMode val="edge"/>
              <c:x val="0.0200396825396825"/>
              <c:y val="0.328354978354978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extTo"/>
        <c:spPr>
          <a:ln w="0">
            <a:solidFill>
              <a:srgbClr val="ffffff"/>
            </a:solidFill>
          </a:ln>
        </c:spPr>
        <c:txPr>
          <a:bodyPr/>
          <a:lstStyle/>
          <a:p>
            <a:pPr>
              <a:defRPr b="0" sz="1380" spc="-1" strike="noStrike">
                <a:solidFill>
                  <a:srgbClr val="ffffff"/>
                </a:solidFill>
                <a:latin typeface="TUM Neue Helvetica 55 Regular"/>
                <a:ea typeface="MS Gothic"/>
              </a:defRPr>
            </a:pPr>
          </a:p>
        </c:txPr>
        <c:crossAx val="96078558"/>
        <c:crosses val="min"/>
        <c:crossBetween val="between"/>
        <c:majorUnit val="5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404206349206349"/>
          <c:y val="0.0374458874458875"/>
        </c:manualLayout>
      </c:layout>
      <c:overlay val="0"/>
      <c:spPr>
        <a:noFill/>
        <a:ln w="0">
          <a:solidFill>
            <a:srgbClr val="ffffff"/>
          </a:solidFill>
        </a:ln>
      </c:spPr>
      <c:txPr>
        <a:bodyPr/>
        <a:lstStyle/>
        <a:p>
          <a:pPr>
            <a:defRPr b="0" sz="1190" spc="-1" strike="noStrike">
              <a:solidFill>
                <a:srgbClr val="ffffff"/>
              </a:solidFill>
              <a:latin typeface="TUM Neue Helvetica 55 Regular"/>
              <a:ea typeface="MS Gothic"/>
            </a:defRPr>
          </a:pPr>
        </a:p>
      </c:txPr>
    </c:legend>
    <c:plotVisOnly val="0"/>
    <c:dispBlanksAs val="gap"/>
  </c:chart>
  <c:spPr>
    <a:solidFill>
      <a:srgbClr val="003359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836-F3EF-448A-A21C-3332959C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0D2-5252-4C70-A896-6C7E669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AAF-77F0-4C9B-9F60-A463BABD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17C-3D1F-4502-AF2D-8F04CADF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2A4-3A14-4E11-B873-7D155B29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C3B-F337-4AD0-BE55-1474736F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631-C136-474D-8C86-CEB27A4A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E2C-B761-4DA8-B3EE-F136D8CA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E9B-A8CA-4C16-8D28-C883E4BE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AA2-9C5D-4CE3-9AEB-0FB500F9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8D2-4014-4789-B71D-F2CC2FC5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241-B17B-4A88-96B0-64615E7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48720" y="36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Click to edit the title text format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UM Neue Helvetica 55 Regular"/>
              </a:defRPr>
            </a:lvl1pPr>
          </a:lstStyle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UM Neue Helvetica 55 Regula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UM Neue Helvetica 55 Regular"/>
              </a:defRPr>
            </a:lvl1pPr>
          </a:lstStyle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UM Neue Helvetica 55 Regular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UM Neue Helvetica 55 Regular"/>
              </a:defRPr>
            </a:lvl1pPr>
          </a:lstStyle>
          <a:p>
            <a:pPr indent="0" algn="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7940A-E38D-4E9D-8BA5-10EB26C7D51D}" type="slidenum">
              <a:rPr b="0" lang="en-US" sz="1400" spc="-1" strike="noStrike">
                <a:solidFill>
                  <a:srgbClr val="ffffff"/>
                </a:solidFill>
                <a:latin typeface="TUM Neue Helvetica 55 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820000" y="227160"/>
            <a:ext cx="8636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1260000"/>
            <a:ext cx="939636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Generating Embodied Descriptions Tailored to User Preferences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3239640"/>
            <a:ext cx="9072360" cy="34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TUM Neue Helvetica"/>
              </a:rPr>
              <a:t>Mary Ellen F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TUM Neue Helvetica"/>
              </a:rPr>
              <a:t>Informatik VI: Echtzeitsysteme und Rob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TUM Neue Helvetica"/>
              </a:rPr>
              <a:t>Technische Universit</a:t>
            </a:r>
            <a:r>
              <a:rPr b="0" lang="en-US" sz="3200" spc="-1" strike="noStrike">
                <a:solidFill>
                  <a:srgbClr val="dad7cb"/>
                </a:solidFill>
                <a:latin typeface="TUM Neue Helvetica"/>
                <a:ea typeface="Arial"/>
              </a:rPr>
              <a:t>ät Mün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TUM Neue Helvetica"/>
                <a:ea typeface="Arial"/>
              </a:rPr>
              <a:t>7</a:t>
            </a:r>
            <a:r>
              <a:rPr b="0" lang="en-US" sz="2800" spc="-1" strike="noStrike" baseline="33000">
                <a:solidFill>
                  <a:srgbClr val="dad7cb"/>
                </a:solidFill>
                <a:latin typeface="TUM Neue Helvetica"/>
                <a:ea typeface="Arial"/>
              </a:rPr>
              <a:t>th</a:t>
            </a:r>
            <a:r>
              <a:rPr b="0" lang="en-US" sz="2800" spc="-1" strike="noStrike">
                <a:solidFill>
                  <a:srgbClr val="dad7cb"/>
                </a:solidFill>
                <a:latin typeface="TUM Neue Helvetica"/>
                <a:ea typeface="Arial"/>
              </a:rPr>
              <a:t> International Conference on Intelligent Virtu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TUM Neue Helvetica"/>
                <a:ea typeface="Arial"/>
              </a:rPr>
              <a:t>Paris, France, 18 Septembe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Positive vs. nodding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04720" y="1770120"/>
          <a:ext cx="9072720" cy="4989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2" name=""/>
          <p:cNvSpPr/>
          <p:nvPr/>
        </p:nvSpPr>
        <p:spPr>
          <a:xfrm>
            <a:off x="8448480" y="6384960"/>
            <a:ext cx="1086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M Neue Helvetica 55 Regular"/>
              </a:rPr>
              <a:t>p ≈ 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66A-7C72-47A4-826E-B05029DF7F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Nodding vs. negative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4720" y="1770120"/>
          <a:ext cx="9072720" cy="4989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6" name=""/>
          <p:cNvSpPr/>
          <p:nvPr/>
        </p:nvSpPr>
        <p:spPr>
          <a:xfrm>
            <a:off x="8577720" y="6384960"/>
            <a:ext cx="955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M Neue Helvetica 55 Regular"/>
              </a:rPr>
              <a:t>p ≈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5CF-FD3E-4773-AAC9-98E865834E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Discussion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In general, subjects ...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Arial"/>
              </a:rPr>
              <a:t>... were able to identify the intended evaluation 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Arial"/>
              </a:rPr>
              <a:t>... preferred consistency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Nodding vs. positive displays (recognition):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Arial"/>
              </a:rPr>
              <a:t>Nodding is somewhat more frequent in positive contexts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Arial"/>
              </a:rPr>
              <a:t>Does a “neutral” description exist in COMIC?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General preference for positive facial displays?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E17-1007-4DF1-AE8C-7D0355E807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Related publications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Corpus recording and annotation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dad7cb"/>
                </a:solidFill>
                <a:latin typeface="Arial"/>
              </a:rPr>
              <a:t>M.E. Foster. </a:t>
            </a:r>
            <a:r>
              <a:rPr b="0" i="1" lang="en-US" sz="2400" spc="-1" strike="noStrike">
                <a:solidFill>
                  <a:srgbClr val="dad7cb"/>
                </a:solidFill>
                <a:latin typeface="Arial"/>
              </a:rPr>
              <a:t>Associating facial displays with syntactic constituents for generation. </a:t>
            </a:r>
            <a:r>
              <a:rPr b="0" lang="en-US" sz="2400" spc="-1" strike="noStrike">
                <a:solidFill>
                  <a:srgbClr val="dad7cb"/>
                </a:solidFill>
                <a:latin typeface="Arial"/>
              </a:rPr>
              <a:t>ACL 2007 Linguistic Annotation Workshop, Prague, July 2007.</a:t>
            </a:r>
            <a:endParaRPr b="0" lang="en-US" sz="2400" spc="-1" strike="noStrike">
              <a:solidFill>
                <a:srgbClr val="dad7c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Evaluation studies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dad7cb"/>
                </a:solidFill>
                <a:latin typeface="Arial"/>
              </a:rPr>
              <a:t>M.E. Foster. </a:t>
            </a:r>
            <a:r>
              <a:rPr b="0" i="1" lang="en-US" sz="2400" spc="-1" strike="noStrike">
                <a:solidFill>
                  <a:srgbClr val="dad7cb"/>
                </a:solidFill>
                <a:latin typeface="Arial"/>
              </a:rPr>
              <a:t>Comparing rule-based and data-driven generation of facial displays.</a:t>
            </a:r>
            <a:r>
              <a:rPr b="0" lang="en-US" sz="2400" spc="-1" strike="noStrike">
                <a:solidFill>
                  <a:srgbClr val="dad7cb"/>
                </a:solidFill>
                <a:latin typeface="Arial"/>
              </a:rPr>
              <a:t> ACL 2007 Embodied Language Workshop, Prague, July 2007.</a:t>
            </a:r>
            <a:endParaRPr b="0" lang="en-US" sz="24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dad7cb"/>
                </a:solidFill>
                <a:latin typeface="Arial"/>
              </a:rPr>
              <a:t>M.E. Foster and J. Oberlander. </a:t>
            </a:r>
            <a:r>
              <a:rPr b="0" i="1" lang="en-US" sz="2400" spc="-1" strike="noStrike">
                <a:solidFill>
                  <a:srgbClr val="dad7cb"/>
                </a:solidFill>
                <a:latin typeface="Arial"/>
              </a:rPr>
              <a:t>Corpus-based Generation of Head and Eyebrow Motion for an Embodied Conversational Agent. </a:t>
            </a:r>
            <a:r>
              <a:rPr b="0" lang="en-US" sz="2400" spc="-1" strike="noStrike">
                <a:solidFill>
                  <a:srgbClr val="dad7cb"/>
                </a:solidFill>
                <a:latin typeface="Arial"/>
              </a:rPr>
              <a:t>Journal of Language Resources and Evaluation – Special issue on Multimodal Corpora. In press.</a:t>
            </a:r>
            <a:endParaRPr b="0" lang="en-US" sz="24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8E4-3C5B-4FA6-80C8-6F1AAE3595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Face-display corpus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Recorded an actor reading ~450 scripted sentences in the domain of the COMIC system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Arial"/>
              </a:rPr>
              <a:t>Scripts included full contextual information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Annotated the facial displays accompanying each sentence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Single biggest factor: user-preference evaluation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5D1-2648-4B3F-98F3-6435705B64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Characteristic facial displays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60760" y="1766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52960" y="4373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247760" y="4373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21E-57EE-47F0-8FBA-A2B8740A6D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Experiment 1: Recognisability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dad7cb"/>
                </a:solidFill>
                <a:latin typeface="Arial"/>
              </a:rPr>
              <a:t>16 syntactically neutral sentences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ad7cb"/>
                </a:solidFill>
                <a:latin typeface="Arial"/>
              </a:rPr>
              <a:t>e.g., “This design is in the family style.”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dad7cb"/>
                </a:solidFill>
                <a:latin typeface="Arial"/>
              </a:rPr>
              <a:t>Four videos for each sentence (RUTH/Festival)</a:t>
            </a:r>
            <a:r>
              <a:rPr b="0" lang="ar-SA" sz="3200" spc="-1" strike="noStrike">
                <a:solidFill>
                  <a:srgbClr val="dad7cb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ad7cb"/>
                </a:solidFill>
                <a:latin typeface="Arial"/>
              </a:rPr>
              <a:t>Positive displays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ad7cb"/>
                </a:solidFill>
                <a:latin typeface="Arial"/>
              </a:rPr>
              <a:t>Negative displays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ad7cb"/>
                </a:solidFill>
                <a:latin typeface="Arial"/>
              </a:rPr>
              <a:t>Nodding only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dad7cb"/>
                </a:solidFill>
                <a:latin typeface="Arial"/>
              </a:rPr>
              <a:t>No motion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dad7cb"/>
                </a:solidFill>
                <a:latin typeface="Arial"/>
              </a:rPr>
              <a:t>26 subjects chose user-preference evaluation for each (positive, negative, don't know)</a:t>
            </a:r>
            <a:r>
              <a:rPr b="0" lang="ar-SA" sz="3200" spc="-1" strike="noStrike">
                <a:solidFill>
                  <a:srgbClr val="dad7cb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E89-2291-4C71-9421-D047A90325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Sample videos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768320"/>
            <a:ext cx="2417760" cy="2417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35840" y="1768320"/>
            <a:ext cx="2417760" cy="2417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523880" y="4338720"/>
            <a:ext cx="2417760" cy="2417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35840" y="4338720"/>
            <a:ext cx="2417760" cy="2417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8320" y="2855880"/>
            <a:ext cx="1014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M Neue Helvetica 55 Regular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4640" y="5448240"/>
            <a:ext cx="1114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M Neue Helvetica 55 Regular"/>
              </a:rPr>
              <a:t>No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62360" y="5435640"/>
            <a:ext cx="141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M Neue Helvetica 55 Regular"/>
              </a:rPr>
              <a:t>No disp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6680" y="2855880"/>
            <a:ext cx="1139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M Neue Helvetica 55 Regular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E8E-EC56-44D4-AFA0-17F7D83DE2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Results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04720" y="1770120"/>
          <a:ext cx="9072720" cy="4989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55D-F403-4D4B-9891-3ED55019E3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Experiment 2: Consistency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12 new sentences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Arial"/>
              </a:rPr>
              <a:t>6 positive: “You will like this: ...”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Arial"/>
              </a:rPr>
              <a:t>6 negative: “You will not like this: ...”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Three RUTH videos for each sentence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Arial"/>
              </a:rPr>
              <a:t>Negative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a2ad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dad7cb"/>
                </a:solidFill>
                <a:latin typeface="Arial"/>
              </a:rPr>
              <a:t>Nodding</a:t>
            </a:r>
            <a:endParaRPr b="0" lang="en-US" sz="2800" spc="-1" strike="noStrike">
              <a:solidFill>
                <a:srgbClr val="dad7c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a2ad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ad7cb"/>
                </a:solidFill>
                <a:latin typeface="Arial"/>
              </a:rPr>
              <a:t>18 subjects made subjective (forced) choices between two videos for each sentence</a:t>
            </a:r>
            <a:endParaRPr b="0" lang="en-US" sz="3200" spc="-1" strike="noStrike">
              <a:solidFill>
                <a:srgbClr val="dad7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071-E663-4734-AB0B-6599DC7339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Sample videos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1640" y="2987640"/>
            <a:ext cx="2880000" cy="2879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985080" y="298764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745080" y="298944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3040" y="1763640"/>
            <a:ext cx="97606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UM Neue Helvetica 55 Regular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UM Neue Helvetica 55 Regular"/>
              </a:rPr>
              <a:t>You will like this: it draws from Aparici’s Colorado seri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8800" y="5940360"/>
            <a:ext cx="1245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67600" y="5940360"/>
            <a:ext cx="1381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08680" y="5940360"/>
            <a:ext cx="1312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699-1574-4F90-9F48-DF58DA1099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e37222"/>
                </a:solidFill>
                <a:latin typeface="TUM Neue Helvetica"/>
              </a:rPr>
              <a:t>Positive vs. negative</a:t>
            </a:r>
            <a:endParaRPr b="1" lang="en-US" sz="4400" spc="-1" strike="noStrike">
              <a:solidFill>
                <a:srgbClr val="e37222"/>
              </a:solidFill>
              <a:latin typeface="TUM Neue Helvetic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2360" cy="498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504720" y="1770120"/>
          <a:ext cx="9072720" cy="4989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78" name=""/>
          <p:cNvSpPr/>
          <p:nvPr/>
        </p:nvSpPr>
        <p:spPr>
          <a:xfrm>
            <a:off x="8349480" y="6384960"/>
            <a:ext cx="1155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M Neue Helvetica 55 Regular"/>
              </a:rPr>
              <a:t>p &lt; 0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y Ellen Foster / IVA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6E3-4AB8-439C-95DC-AF0A8CC4CB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.09.1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y Ellen Foster</dc:creator>
  <dc:description/>
  <dc:language>en-US</dc:language>
  <cp:lastModifiedBy>Mary Ellen Foster</cp:lastModifiedBy>
  <dcterms:modified xsi:type="dcterms:W3CDTF">2007-09-18T15:03:44Z</dcterms:modified>
  <cp:revision>12</cp:revision>
  <dc:subject/>
  <dc:title>Generating embodied descriptions tailored to user preferences</dc:title>
</cp:coreProperties>
</file>