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5F59E-ADFD-4831-B200-7FFC6C481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9C00C-86BB-4126-A66A-F8182899F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A18ED-CB97-467F-A3D8-3F89EF7A7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1F39D-1994-456F-8102-CD7287968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991E4-87BC-4713-AEE7-6B2994FF4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157F5-2D8E-4FFC-B00A-D1AD34DB9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176F1-9E96-416D-BC19-06B3985B9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FAA20-4FDD-4A6D-813C-6099D9099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9D222-1A9A-45AD-BAAA-BFD28D813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33668-7423-4F75-92EC-FDE811A43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71357-14A5-4700-B5DE-FF8D1DADD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E2082-447D-44E8-BCF0-49C2AF932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006ED-EB5C-4DCF-A9F4-386D3E4C8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613E5-75CA-4963-B675-92C528106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6DEEB-E6DC-4F81-A1A3-722D4A1E9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392EE-1EFB-45AF-B182-D9E8210AE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8A4B3-F716-4A85-8097-CE7DBBB6D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AA132-45B4-4E10-8B90-097522731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DA700-7F9C-4DF3-AD53-F2D7E8C0C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5A108-4838-45C7-8134-E2B0518B4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9CBF8-93D1-41FD-9D20-07C356160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D2E45-739E-4E3E-9F4B-40B4A8F2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1FACA-4EF5-44A0-BC0B-CCB1A19E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678A3-F612-4C1E-8A98-D7C9B6E8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C5333-1DE8-4D20-B2CD-6231025091C8}" type="slidenum"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2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C07C5-DBB0-413F-AACF-03CD578B80C8}" type="slidenum"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ris.Liang@amd.com" TargetMode="External"/><Relationship Id="rId2" Type="http://schemas.openxmlformats.org/officeDocument/2006/relationships/hyperlink" Target="mailto:Lawrence.Liu@amd.com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  <a:ea typeface="宋体"/>
              </a:rPr>
              <a:t>Linux SB700 Driver Test (Basic)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  <a:ea typeface="宋体"/>
              </a:rPr>
              <a:t>Exit Report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  <a:ea typeface="宋体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  <a:ea typeface="宋体"/>
              </a:rPr>
              <a:t>- IDE, RHEL5.1 RC i386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240" y="4266720"/>
            <a:ext cx="62485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  <a:ea typeface="宋体"/>
              </a:rPr>
              <a:t>Oct 1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aramond"/>
                <a:ea typeface="宋体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  <a:ea typeface="宋体"/>
              </a:rPr>
              <a:t>, 2007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  <a:ea typeface="宋体"/>
              </a:rPr>
              <a:t>To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  <a:ea typeface="宋体"/>
              </a:rPr>
              <a:t>Oct 1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aramond"/>
                <a:ea typeface="宋体"/>
              </a:rPr>
              <a:t>rd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  <a:ea typeface="宋体"/>
              </a:rPr>
              <a:t>, 2007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  <a:ea typeface="宋体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  <a:ea typeface="宋体"/>
              </a:rPr>
              <a:t>Report prepared by Lawrence Liu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  <a:ea typeface="宋体"/>
              </a:rPr>
              <a:t>Information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宋体"/>
              </a:rPr>
              <a:t>If there are any questions, please feel free to contact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Garamond"/>
                <a:ea typeface="宋体"/>
                <a:hlinkClick r:id="rId1"/>
              </a:rPr>
              <a:t>Harris.Liang@amd.com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宋体"/>
              </a:rPr>
              <a:t> or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Garamond"/>
                <a:ea typeface="宋体"/>
                <a:hlinkClick r:id="rId2"/>
              </a:rPr>
              <a:t>Lawrence.Liu@amd.com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宋体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  <a:ea typeface="宋体"/>
              </a:rPr>
              <a:t>Testing Inform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  <a:ea typeface="宋体"/>
              </a:rPr>
              <a:t>Platform Info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ffff"/>
                </a:solidFill>
                <a:latin typeface="Garamond"/>
                <a:ea typeface="宋体"/>
              </a:rPr>
              <a:t>Linux Distro: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  <a:ea typeface="宋体"/>
              </a:rPr>
              <a:t>RHEL5.1 RC i38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ffff"/>
                </a:solidFill>
                <a:latin typeface="Garamond"/>
                <a:ea typeface="宋体"/>
              </a:rPr>
              <a:t>Platform</a:t>
            </a:r>
            <a:r>
              <a:rPr b="1" lang="en-CA" sz="20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0" lang="en-CA" sz="2000" spc="-1" strike="noStrike">
                <a:solidFill>
                  <a:srgbClr val="ffffff"/>
                </a:solidFill>
                <a:latin typeface="Garamond"/>
                <a:ea typeface="宋体"/>
              </a:rPr>
              <a:t>Shiner</a:t>
            </a:r>
            <a:r>
              <a:rPr b="0" lang="en-CA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CA" sz="2000" spc="-1" strike="noStrike">
                <a:solidFill>
                  <a:srgbClr val="ffffff"/>
                </a:solidFill>
                <a:latin typeface="Garamond"/>
                <a:ea typeface="宋体"/>
              </a:rPr>
              <a:t>Rev. 0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ffff"/>
                </a:solidFill>
                <a:latin typeface="Garamond"/>
              </a:rPr>
              <a:t>Northbridge</a:t>
            </a:r>
            <a:r>
              <a:rPr b="1" lang="en-CA" sz="2000" spc="-1" strike="noStrike">
                <a:solidFill>
                  <a:srgbClr val="ffffff"/>
                </a:solidFill>
                <a:latin typeface="Garamond"/>
                <a:ea typeface="宋体"/>
              </a:rPr>
              <a:t> + </a:t>
            </a:r>
            <a:r>
              <a:rPr b="1" lang="en-CA" sz="2000" spc="-1" strike="noStrike">
                <a:solidFill>
                  <a:srgbClr val="ffffff"/>
                </a:solidFill>
                <a:latin typeface="Garamond"/>
              </a:rPr>
              <a:t>Southbridge:</a:t>
            </a:r>
            <a:r>
              <a:rPr b="0" lang="en-CA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CA" sz="2000" spc="-1" strike="noStrike">
                <a:solidFill>
                  <a:srgbClr val="ffffff"/>
                </a:solidFill>
                <a:latin typeface="Garamond"/>
                <a:ea typeface="宋体"/>
              </a:rPr>
              <a:t>RX780 A11 + SB700 A11 + ALC885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ffff"/>
                </a:solidFill>
                <a:latin typeface="Garamond"/>
                <a:ea typeface="宋体"/>
              </a:rPr>
              <a:t>P/N:</a:t>
            </a:r>
            <a:r>
              <a:rPr b="0" lang="en-CA" sz="2000" spc="-1" strike="noStrike">
                <a:solidFill>
                  <a:srgbClr val="ffffff"/>
                </a:solidFill>
                <a:latin typeface="Garamond"/>
                <a:ea typeface="宋体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  <a:ea typeface="宋体"/>
              </a:rPr>
              <a:t>102-B27711-0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ffff"/>
                </a:solidFill>
                <a:latin typeface="Garamond"/>
                <a:ea typeface="宋体"/>
              </a:rPr>
              <a:t>HW Level:</a:t>
            </a:r>
            <a:r>
              <a:rPr b="0" lang="en-CA" sz="2000" spc="-1" strike="noStrike">
                <a:solidFill>
                  <a:srgbClr val="ffffff"/>
                </a:solidFill>
                <a:latin typeface="Garamond"/>
                <a:ea typeface="宋体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ffff"/>
                </a:solidFill>
                <a:latin typeface="Garamond"/>
                <a:ea typeface="宋体"/>
              </a:rPr>
              <a:t>BIOS:</a:t>
            </a:r>
            <a:r>
              <a:rPr b="0" lang="en-CA" sz="2000" spc="-1" strike="noStrike">
                <a:solidFill>
                  <a:srgbClr val="ffffff"/>
                </a:solidFill>
                <a:latin typeface="Garamond"/>
                <a:ea typeface="宋体"/>
              </a:rPr>
              <a:t> MSNA01-8 (08.00.14, 09/18/07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ffff"/>
                </a:solidFill>
                <a:latin typeface="Garamond"/>
                <a:ea typeface="宋体"/>
              </a:rPr>
              <a:t>SB CIM revisions:</a:t>
            </a:r>
            <a:r>
              <a:rPr b="0" lang="en-CA" sz="2000" spc="-1" strike="noStrike">
                <a:solidFill>
                  <a:srgbClr val="ffffff"/>
                </a:solidFill>
                <a:latin typeface="Garamond"/>
                <a:ea typeface="宋体"/>
              </a:rPr>
              <a:t> 2.00.0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ffff"/>
                </a:solidFill>
                <a:latin typeface="Garamond"/>
                <a:ea typeface="宋体"/>
              </a:rPr>
              <a:t>HyperDrive Option ROM Version:</a:t>
            </a:r>
            <a:r>
              <a:rPr b="0" lang="en-CA" sz="2000" spc="-1" strike="noStrike">
                <a:solidFill>
                  <a:srgbClr val="ffffff"/>
                </a:solidFill>
                <a:latin typeface="Garamond"/>
                <a:ea typeface="宋体"/>
              </a:rPr>
              <a:t> 0001.000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  <a:ea typeface="宋体"/>
              </a:rPr>
              <a:t>Testing Inform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Garamond"/>
              </a:rPr>
              <a:t>System Configuration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  <a:ea typeface="宋体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Garamond"/>
              </a:rPr>
              <a:t>CPU speed:</a:t>
            </a:r>
            <a:r>
              <a:rPr b="0" lang="en-CA" sz="2000" spc="-1" strike="noStrike">
                <a:solidFill>
                  <a:srgbClr val="ffffff"/>
                </a:solidFill>
                <a:latin typeface="Garamond"/>
                <a:ea typeface="宋体"/>
              </a:rPr>
              <a:t> </a:t>
            </a:r>
            <a:r>
              <a:rPr b="0" lang="de-DE" sz="2000" spc="-1" strike="noStrike">
                <a:solidFill>
                  <a:srgbClr val="ffffff"/>
                </a:solidFill>
                <a:latin typeface="Garamond"/>
                <a:ea typeface="宋体"/>
              </a:rPr>
              <a:t>Athlon 64 X2 4000+, G1, 2.1 GHz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Garamond"/>
                <a:ea typeface="宋体"/>
              </a:rPr>
              <a:t>HT frequency: 1000 MHz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Garamond"/>
                <a:ea typeface="宋体"/>
              </a:rPr>
              <a:t>Memory (SODIMM): Samsung 512MB 800MHz x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  <a:ea typeface="宋体"/>
              </a:rPr>
              <a:t>HDD: Seagate Barracuda 7200.9 80Gb (Desktop SATA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  <a:ea typeface="宋体"/>
              </a:rPr>
              <a:t>ODD: Plextor PX-755SA DVD +/- RW Drive (SATA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  <a:ea typeface="宋体"/>
              </a:rPr>
              <a:t>Issue Information at Test Exi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  <a:ea typeface="宋体"/>
              </a:rPr>
              <a:t>First test pass of IDE, REHL5.1 RC i386 on Shin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  <a:ea typeface="宋体"/>
              </a:rPr>
              <a:t>0 New issues were opene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  <a:ea typeface="宋体"/>
              </a:rPr>
              <a:t>0 test items were blocke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  <a:ea typeface="宋体"/>
              </a:rPr>
              <a:t>0 items were skippe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  <a:ea typeface="宋体"/>
              </a:rPr>
              <a:t>New Open Issu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  <a:ea typeface="宋体"/>
              </a:rPr>
              <a:t>New Active Issues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  <a:ea typeface="宋体"/>
              </a:rPr>
              <a:t>Test Case Matrix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宋体"/>
              </a:rPr>
              <a:t>See attached spreadsheet for test case result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宋体"/>
              </a:rPr>
              <a:t>Some cases have comments that may be helpful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048120" y="2819520"/>
          <a:ext cx="914400" cy="685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819520"/>
                    <a:ext cx="9144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  <a:ea typeface="宋体"/>
              </a:rPr>
              <a:t>Test Case Resul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65120" y="1600200"/>
          <a:ext cx="8212320" cy="45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1600200"/>
                    <a:ext cx="821232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  <a:ea typeface="宋体"/>
              </a:rPr>
              <a:t>Test Case Results Per Buil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80880" y="1447920"/>
          <a:ext cx="8440920" cy="511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8440920" cy="51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  <a:ea typeface="宋体"/>
              </a:rPr>
              <a:t>New / Closed Issues Per Buil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57320" y="1768320"/>
          <a:ext cx="8742240" cy="484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320" y="1768320"/>
                    <a:ext cx="8742240" cy="48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  <a:ea typeface="宋体"/>
              </a:rPr>
              <a:t>Accumulative Issue Count Between Build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73040" y="1744560"/>
          <a:ext cx="8196120" cy="451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1744560"/>
                    <a:ext cx="8196120" cy="45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9T19:38:03Z</dcterms:created>
  <dc:creator>Wiler He</dc:creator>
  <dc:description/>
  <cp:keywords>BIOS validation report ppt</cp:keywords>
  <dc:language>en-US</dc:language>
  <cp:lastModifiedBy>laliu</cp:lastModifiedBy>
  <dcterms:modified xsi:type="dcterms:W3CDTF">2007-10-11T07:20:06Z</dcterms:modified>
  <cp:revision>350</cp:revision>
  <dc:subject/>
  <dc:title>Seahorse AMI D03 sbios release Test Exit Report</dc:title>
</cp:coreProperties>
</file>