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%20am%20alive_03,28.00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F942-F1CF-4AB7-B2FC-72D37567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983-0541-438C-95BF-1CF0E940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140-BD53-4950-A2FE-77FAD423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C7D-9D6B-40B2-A625-79723DAE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891-8467-4307-8BCB-41D5E768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3CC-2BDD-481E-9D48-1D1B1813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5B6-AA13-4AAE-A1A6-822681B7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A768-1EA4-4E61-A108-1C943871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A60-4167-4293-BBD6-97765937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E46-163A-4748-B735-978E49C0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CB4-974C-485C-8B1D-13A1EAF8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3E8-31A1-478D-A8C6-1206F8BC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29D2-EBC7-4B80-BA88-AFBF04A331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I%20am%20alive_03,28.00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572000" y="0"/>
              <a:ext cx="4572000" cy="34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3429000"/>
              <a:ext cx="4572000" cy="34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4572000" y="3429000"/>
              <a:ext cx="4572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457200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0" y="2819520"/>
            <a:ext cx="9144000" cy="2025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I wish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the streng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pperplate Gothic Light"/>
              </a:rPr>
              <a:t>of all elemen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053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ahoma"/>
                <a:ea typeface="Times New Roman"/>
              </a:rPr>
              <a:t>Presentation goes off also fully automatically.  As you like.  Please switch on loudspeaker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2400" y="641664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For  you 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December 2004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fade thruBlk="true"/>
    <p:sndAc>
      <p:stSnd>
        <p:snd r:embed="rId5" name="I%20am%20alive_03,28.00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925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47640" y="5638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Palatino Linotype"/>
                <a:ea typeface="Times New Roman"/>
              </a:rPr>
              <a:t>Everybody sees how you seem, </a:t>
            </a: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Palatino Linotype"/>
                <a:ea typeface="Times New Roman"/>
              </a:rPr>
              <a:t>however, only some know who you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8000" y="579600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Palatino Linotype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ccffff"/>
                </a:solidFill>
                <a:latin typeface="Palatino Linotype"/>
                <a:ea typeface="Times New Roman"/>
              </a:rPr>
              <a:t>He who would like to have something he never ha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Palatino Linotype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ccffff"/>
                </a:solidFill>
                <a:latin typeface="Palatino Linotype"/>
                <a:ea typeface="Times New Roman"/>
              </a:rPr>
              <a:t>will have to do something well, that he hasn’t done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66640" y="289548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Palatino Linotype"/>
                <a:ea typeface="Times New Roman"/>
              </a:rPr>
              <a:t>Perhaps God would want you to become acquainted with many different people in the course of your life, so that when you meet 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Palatino Linotype"/>
                <a:ea typeface="Times New Roman"/>
              </a:rPr>
              <a:t> the right on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Palatino Linotype"/>
                <a:ea typeface="Times New Roman"/>
              </a:rPr>
              <a:t>you can appreciate and be grateful for th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55069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Give something a na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and it will happe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00200" y="3809880"/>
            <a:ext cx="5672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Palatino Linotype"/>
                <a:ea typeface="Times New Roman"/>
              </a:rPr>
              <a:t>Love doesn't require</a:t>
            </a:r>
            <a:br>
              <a:rPr sz="2800"/>
            </a:br>
            <a:r>
              <a:rPr b="0" lang="en-GB" sz="2800" spc="-1" strike="noStrike">
                <a:solidFill>
                  <a:srgbClr val="ffcc00"/>
                </a:solidFill>
                <a:latin typeface="Palatino Linotype"/>
                <a:ea typeface="Times New Roman"/>
              </a:rPr>
              <a:t>two people look at each other, </a:t>
            </a:r>
            <a:br>
              <a:rPr sz="2800"/>
            </a:br>
            <a:r>
              <a:rPr b="0" lang="en-GB" sz="2800" spc="-1" strike="noStrike">
                <a:solidFill>
                  <a:srgbClr val="ffcc00"/>
                </a:solidFill>
                <a:latin typeface="Palatino Linotype"/>
                <a:ea typeface="Times New Roman"/>
              </a:rPr>
              <a:t>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Palatino Linotype"/>
                <a:ea typeface="Times New Roman"/>
              </a:rPr>
              <a:t>that they look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Palatino Linotype"/>
                <a:ea typeface="Times New Roman"/>
              </a:rPr>
              <a:t>in the same direction.</a:t>
            </a:r>
            <a:br>
              <a:rPr sz="2800"/>
            </a:br>
            <a:r>
              <a:rPr b="0" lang="en-GB" sz="800" spc="-1" strike="noStrike">
                <a:solidFill>
                  <a:srgbClr val="ffcc00"/>
                </a:solidFill>
                <a:latin typeface="Palatino Linotype"/>
                <a:ea typeface="Times New Roman"/>
              </a:rPr>
              <a:t> </a:t>
            </a:r>
            <a:r>
              <a:rPr b="0" lang="en-GB" sz="1000" spc="-1" strike="noStrike">
                <a:solidFill>
                  <a:srgbClr val="ffcc00"/>
                </a:solidFill>
                <a:latin typeface="Palatino Linotype"/>
                <a:ea typeface="Times New Roman"/>
              </a:rPr>
              <a:t>(Antoine de Saint Exupe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257800" y="457200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Palatino Linotype"/>
                <a:ea typeface="Times New Roman"/>
              </a:rPr>
              <a:t>Life is </a:t>
            </a:r>
            <a:br>
              <a:rPr sz="2800"/>
            </a:br>
            <a:r>
              <a:rPr b="0" lang="en-GB" sz="2800" spc="-1" strike="noStrike">
                <a:solidFill>
                  <a:srgbClr val="000099"/>
                </a:solidFill>
                <a:latin typeface="Palatino Linotype"/>
                <a:ea typeface="Times New Roman"/>
              </a:rPr>
              <a:t> drawing </a:t>
            </a:r>
            <a:br>
              <a:rPr sz="2800"/>
            </a:br>
            <a:r>
              <a:rPr b="0" lang="en-GB" sz="2800" spc="-1" strike="noStrike">
                <a:solidFill>
                  <a:srgbClr val="000099"/>
                </a:solidFill>
                <a:latin typeface="Palatino Linotype"/>
                <a:ea typeface="Times New Roman"/>
              </a:rPr>
              <a:t> without an eras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2120" y="838080"/>
            <a:ext cx="76197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I wish you al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Air to bre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Fire to warm yo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Water to drink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The earth to live 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(From Latin America)</a:t>
            </a:r>
            <a:r>
              <a:rPr b="0" lang="en-GB" sz="28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38920" y="4775040"/>
            <a:ext cx="26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I wish this to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from my he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42400" y="641664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For  you 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December 2004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9200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The one who takes your hand but touches your heart is a true Fri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48320" y="4572000"/>
            <a:ext cx="449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We seldom think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what we hav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but always think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 Linotype"/>
                <a:ea typeface="Times New Roman"/>
              </a:rPr>
              <a:t>what we mis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181480"/>
            <a:ext cx="61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Palatino Linotype"/>
                <a:ea typeface="Times New Roman"/>
              </a:rPr>
              <a:t>Don ' t cry because it </a:t>
            </a:r>
            <a:r>
              <a:rPr b="0" lang="en-GB" sz="2400" spc="-1" strike="noStrike">
                <a:solidFill>
                  <a:srgbClr val="cc9900"/>
                </a:solidFill>
                <a:latin typeface="Times New Roman"/>
              </a:rPr>
              <a:t>'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cc9900"/>
                </a:solidFill>
                <a:latin typeface="Palatino Linotype"/>
                <a:ea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cc9900"/>
                </a:solidFill>
                <a:latin typeface="Palatino Linotype"/>
                <a:ea typeface="Times New Roman"/>
              </a:rPr>
              <a:t>over now, </a:t>
            </a:r>
            <a:br>
              <a:rPr sz="2800"/>
            </a:br>
            <a:r>
              <a:rPr b="0" lang="en-GB" sz="2800" spc="-1" strike="noStrike">
                <a:solidFill>
                  <a:srgbClr val="cc9900"/>
                </a:solidFill>
                <a:latin typeface="Palatino Linotype"/>
                <a:ea typeface="Times New Roman"/>
              </a:rPr>
              <a:t> laugh because it happe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356000" y="471960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Palatino Linotype"/>
                <a:ea typeface="Times New Roman"/>
              </a:rPr>
              <a:t>The more precisely you plan, the harder dest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Palatino Linotype"/>
                <a:ea typeface="Times New Roman"/>
              </a:rPr>
              <a:t>will hit y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08720" y="4827600"/>
            <a:ext cx="334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Palatino Linotype"/>
                <a:ea typeface="Times New Roman"/>
              </a:rPr>
              <a:t>What happens, happen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Palatino Linotype"/>
                <a:ea typeface="Times New Roman"/>
              </a:rPr>
              <a:t>a rea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52680" y="1752480"/>
            <a:ext cx="2514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Palatino Linotype"/>
                <a:ea typeface="Times New Roman"/>
              </a:rPr>
              <a:t>Don't 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Palatino Linotype"/>
                <a:ea typeface="Times New Roman"/>
              </a:rPr>
              <a:t>an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Palatino Linotype"/>
                <a:ea typeface="Times New Roman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Palatino Linotype"/>
                <a:ea typeface="Times New Roman"/>
              </a:rPr>
              <a:t>the best things happ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Palatino Linotype"/>
                <a:ea typeface="Times New Roman"/>
              </a:rPr>
              <a:t>when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Palatino Linotype"/>
                <a:ea typeface="Times New Roman"/>
              </a:rPr>
              <a:t>lea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b2b2b2"/>
                </a:solidFill>
                <a:latin typeface="Palatino Linotype"/>
                <a:ea typeface="Times New Roman"/>
              </a:rPr>
              <a:t>expect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292560"/>
            <a:ext cx="8229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4876920"/>
            <a:ext cx="4876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The greatest eve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aren't the loudes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but the most 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876920" y="3645000"/>
            <a:ext cx="426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The most difficult lesson to learn is:</a:t>
            </a:r>
            <a:br>
              <a:rPr sz="2800"/>
            </a:br>
            <a:r>
              <a:rPr b="0" lang="en-GB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  Which bridge in life to use or which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Palatino Linotype"/>
                <a:ea typeface="Times New Roman"/>
              </a:rPr>
              <a:t>to break o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1T22:45:57Z</dcterms:created>
  <dc:creator/>
  <dc:description/>
  <dc:language>en-US</dc:language>
  <cp:lastModifiedBy>FOOD-RCK</cp:lastModifiedBy>
  <dcterms:modified xsi:type="dcterms:W3CDTF">2004-12-28T06:00:01Z</dcterms:modified>
  <cp:revision>47</cp:revision>
  <dc:subject/>
  <dc:title>I's not from me!!!</dc:title>
</cp:coreProperties>
</file>